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1C4-7173-416A-9F9C-A5799A3B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2D5-3891-42F2-8145-CE7CFCB2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140-E780-47B4-93D7-BA12AF72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8FE-3487-4B62-93A9-D99ED540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7D5-5CC2-430A-8698-3ED3359B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A4F-F49C-453C-AAD1-F82B83C5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920-74C2-44B9-B820-D3B64C0B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F33-8869-4683-A993-8CEC0CC3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1CC-2E00-4CB2-A7AC-86FD32B5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499-F1AD-4D3E-BE68-591F0AB0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E40-90F0-447E-8BE1-9EA15559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FF9-4EC7-411F-A9AB-B38AEFD5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D96C-9921-470E-A4C0-967A3CB9E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0774855IvlDAvDgBg_ph" descr=""/>
          <p:cNvPicPr/>
          <p:nvPr/>
        </p:nvPicPr>
        <p:blipFill>
          <a:blip r:embed="rId2"/>
          <a:stretch/>
        </p:blipFill>
        <p:spPr>
          <a:xfrm>
            <a:off x="-1219320" y="25560"/>
            <a:ext cx="601992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4120" y="1066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0"/>
            <a:ext cx="320040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أرسلني يا ربّ أرسلني        وبروحك القدّوس أضرم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خراف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ذئابِ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مســاكين أرسـل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olyspiritsheep" descr=""/>
          <p:cNvPicPr/>
          <p:nvPr/>
        </p:nvPicPr>
        <p:blipFill>
          <a:blip r:embed="rId1"/>
          <a:stretch/>
        </p:blipFill>
        <p:spPr>
          <a:xfrm>
            <a:off x="-457200" y="0"/>
            <a:ext cx="6246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72200" y="304920"/>
            <a:ext cx="27432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الخِراف تضيعُ أُرجِع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الذئـاب تثورُ أُخضِع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جدكَ القدّوسِ يا ملكاً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راعيـاً خُطاكَ أتبعُه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ed_gallery_spirits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سلني نوراً يحمي التائهينَ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خبزاً يُشبِعُ الجائعيــن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 حُبَّاً يغمُـرُ المُعوَزيـنَ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رسلني يا ربُّ أكرمـ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4TT" descr=""/>
          <p:cNvPicPr/>
          <p:nvPr/>
        </p:nvPicPr>
        <p:blipFill>
          <a:blip r:embed="rId1"/>
          <a:stretch/>
        </p:blipFill>
        <p:spPr>
          <a:xfrm>
            <a:off x="3240" y="0"/>
            <a:ext cx="563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638680" y="0"/>
            <a:ext cx="35053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زرعِ الحبَّ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قبلِ الصّلب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عكُسِ الربّ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رسـلني يا ربُّ أرسـلن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6:36Z</dcterms:modified>
  <cp:revision>2</cp:revision>
  <dc:subject/>
  <dc:title>PowerPoint Presentation</dc:title>
</cp:coreProperties>
</file>